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6A6-1493-4F9D-A113-DA12611D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501-4017-4587-A129-016EF560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D00-E9D3-4CDC-A08E-EAD17E8E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D3A-08BA-46BC-89B3-9728559A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E4C-904F-450C-8587-C4834CB3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3C1-3FEC-41F0-9B35-E322F633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FAB-99A0-471C-8A85-DFB35E5B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7B2-AA29-403C-B3DA-9D3EBB32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B0F-DE3A-4E89-934E-DFF6AEC3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ADB-105C-4E4C-B7D2-C70C7366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EFF-678F-43A1-A852-D7D7753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2BC-3EBC-4B10-8BE2-B505C460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59BB-9D52-43B6-BEEA-53990DB68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89000"/>
            <a:ext cx="7848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yo era m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ás joven, cuando tenía ocho años, vivía en las afueras de Londres, en un pueblo pequeño que se llama Leatherhead. Estudiaba a Danes Hill, pero no me gustaba mucho porque había muchas personas antipáticas y los profesores eran muy estrictas- habían muchos deberes. Yo era un alumno bastante tí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2637000"/>
            <a:ext cx="777564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 old was the pers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did he used to live (3 detail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school did he used to go 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did he used to think of it, and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were the teachers like (2detail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was he like as a pupi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16002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ib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b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ib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ib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ib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i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do we use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lking about what we did or  used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411480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Cuando iba a mi escuela primaria llevaba una falda ve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 talk about an action that was going on when something else hap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8195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Tomaba mi desayuno cuando sonó el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72428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staba tomando mi desayuno cuando sonó el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58920" y="1052640"/>
            <a:ext cx="6553080" cy="470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through the formation practice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a script, in English, explai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 imperfect is used for and what it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form the imperfect, including giving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 irregulars are and how to form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189000"/>
            <a:ext cx="7848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yo era m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ás joven, cuando tenía ocho años, vivía en las afueras de Londres, en un pueblo pequeño que se llama Leatherhead. Estudiaba a Danes Hill, pero no me gustaba mucho porque había muchas personas antipáticas y los profesores eran muy estrictas- habían muchos deberes. Yo era un alumno bastante tí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2637000"/>
            <a:ext cx="777564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 ol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e pers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did h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sed 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live (3 detail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school did h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sed 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o 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did h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sed 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ink of it, and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e teachers like (2detail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e like as a pupi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5661000"/>
            <a:ext cx="7416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is story about the past or the present? How can you tell IN ENGL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661000"/>
            <a:ext cx="7416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it describe one-off events or ongoing events that happened over a long period of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ad 2 texts describing a past childh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what the imperfect tense means and how to form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do practice exercises on the im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write a script for and record a podcast on the uses and creation of the imperfec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989000"/>
            <a:ext cx="71294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el fin de semana me encantaba jugar al f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útbol para mi equipo local. Jugaba de centrocampista porque era lo más fuerte. Y claro, era aficionado de Liverpool porque mi tío era de Liverpool. Mi padre trabajaba mucho, y no le veía mucho, pero tenía muchos amigos y la vida era muy dive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20640"/>
            <a:ext cx="6804000" cy="764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verb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re used to describe an action that WAS or used to happ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5084640"/>
            <a:ext cx="6804000" cy="764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n you spot a pattern? Is there a difference between –ar verbs and –er / -ir verb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2590920"/>
            <a:ext cx="8543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alking abou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what you used to 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16765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676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er and -i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1676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er and -i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16002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r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ér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r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r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r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0:53:17Z</dcterms:created>
  <dc:creator>Owner1</dc:creator>
  <dc:description/>
  <dc:language>en-US</dc:language>
  <cp:lastModifiedBy>Owner1</cp:lastModifiedBy>
  <dcterms:modified xsi:type="dcterms:W3CDTF">2008-10-17T11:21:57Z</dcterms:modified>
  <cp:revision>2</cp:revision>
  <dc:subject/>
  <dc:title>Slide 1</dc:title>
</cp:coreProperties>
</file>